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3062-9255-4522-8B76-C30E3CB82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8850-B3D8-4EF0-8CF5-1B88409D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7343-CFB5-498D-893A-F66133BBE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4BCE-800D-4D36-91C6-CABB43173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D182-9B90-460C-9696-FD55BA37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A796-8AB8-4872-B42C-B4ACD9C8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2EC5-68F2-43D3-9DB7-92C92C39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F76D-DA2F-40EE-8099-D4986516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5C62-DD90-4738-9778-6686C6F1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B9D7-85D4-4CC1-B042-DB41E0CC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7BEA-8C66-4295-8C65-618812D3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FF0D-58DA-4326-9F79-FCA4B1C8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F01D-5D9A-4736-9B7E-9C28BB3A0FE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2627280" y="1197000"/>
            <a:ext cx="58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Calibri"/>
              </a:rPr>
              <a:t>Интергисане академске студије фармац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2775960" y="1628640"/>
            <a:ext cx="38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НУТРИТИВНИ СУПЛЕМЕН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3069000" y="2133720"/>
            <a:ext cx="31816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модул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наставна једи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Rectangle 8" descr=""/>
          <p:cNvPicPr/>
          <p:nvPr/>
        </p:nvPicPr>
        <p:blipFill>
          <a:blip r:embed="rId2"/>
          <a:stretch/>
        </p:blipFill>
        <p:spPr>
          <a:xfrm>
            <a:off x="1352520" y="2639880"/>
            <a:ext cx="6711840" cy="18892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"/>
          <p:cNvSpPr/>
          <p:nvPr/>
        </p:nvSpPr>
        <p:spPr>
          <a:xfrm>
            <a:off x="3144960" y="573264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ц. др Иван Срејо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914400" y="2286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00"/>
                </a:solidFill>
                <a:latin typeface="Arial"/>
              </a:rPr>
              <a:t>Осмоларне супстанце у екстрацелуларној и интрацелуларној те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"/>
          <p:cNvSpPr/>
          <p:nvPr/>
        </p:nvSpPr>
        <p:spPr>
          <a:xfrm>
            <a:off x="1230480" y="914400"/>
            <a:ext cx="690084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1228680" y="1371600"/>
            <a:ext cx="690084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143000" y="1442880"/>
            <a:ext cx="7162920" cy="46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Na</a:t>
            </a:r>
            <a:r>
              <a:rPr b="1" i="1" lang="sr-Latn-CS" sz="1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142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139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i="1" lang="sr-Latn-CS" sz="1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4.2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4.0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Ca</a:t>
            </a:r>
            <a:r>
              <a:rPr b="0" lang="sr-Latn-CS" sz="1400" spc="-1" strike="noStrike" baseline="30000">
                <a:solidFill>
                  <a:srgbClr val="ffff00"/>
                </a:solidFill>
                <a:latin typeface="Arial"/>
              </a:rPr>
              <a:t>2+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1.3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1.2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Mg</a:t>
            </a:r>
            <a:r>
              <a:rPr b="0" lang="sr-Latn-CS" sz="1400" spc="-1" strike="noStrike" baseline="30000">
                <a:solidFill>
                  <a:srgbClr val="ffff00"/>
                </a:solidFill>
                <a:latin typeface="Arial"/>
              </a:rPr>
              <a:t>2+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0.8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0.7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00"/>
                </a:solidFill>
                <a:latin typeface="Arial"/>
              </a:rPr>
              <a:t>Cl</a:t>
            </a:r>
            <a:r>
              <a:rPr b="0" i="1" lang="sr-Latn-C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i="1" lang="sr-Latn-C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sr-Latn-C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sr-Latn-C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sr-Latn-CS" sz="1800" spc="-1" strike="noStrike">
                <a:solidFill>
                  <a:srgbClr val="ffff00"/>
                </a:solidFill>
                <a:latin typeface="Arial"/>
              </a:rPr>
              <a:t>108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108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HCO</a:t>
            </a:r>
            <a:r>
              <a:rPr b="1" i="1" lang="sr-Latn-CS" sz="1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i="1" lang="sr-Latn-C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24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28.3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HPO</a:t>
            </a:r>
            <a:r>
              <a:rPr b="1" i="1" lang="sr-Latn-C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i="1" lang="sr-Latn-C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,H</a:t>
            </a:r>
            <a:r>
              <a:rPr b="1" i="1" lang="sr-Latn-C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1" i="1" lang="sr-Latn-C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i="1" lang="sr-Latn-C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0" lang="sr-Latn-CS" sz="14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sr-Latn-CS" sz="14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0.5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0.5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ffff00"/>
                </a:solidFill>
                <a:latin typeface="Arial"/>
              </a:rPr>
              <a:t>Фосфoкреатин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ffff00"/>
                </a:solidFill>
                <a:latin typeface="Arial"/>
              </a:rPr>
              <a:t>Карнозин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ffff00"/>
                </a:solidFill>
                <a:latin typeface="Arial"/>
              </a:rPr>
              <a:t>Аминокиселине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ffff00"/>
                </a:solidFill>
                <a:latin typeface="Arial"/>
              </a:rPr>
              <a:t>Креатин</a:t>
            </a:r>
            <a:r>
              <a:rPr b="0" lang="sr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0.2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0.2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ffff00"/>
                </a:solidFill>
                <a:latin typeface="Arial"/>
              </a:rPr>
              <a:t>Лактат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1.2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1.2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ffff00"/>
                </a:solidFill>
                <a:latin typeface="Arial"/>
              </a:rPr>
              <a:t>Аденозин трифосфат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ffff00"/>
                </a:solidFill>
                <a:latin typeface="Arial"/>
              </a:rPr>
              <a:t>Хексозо монофoсфат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3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ffff00"/>
                </a:solidFill>
                <a:latin typeface="Arial"/>
              </a:rPr>
              <a:t>Гликоза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5.6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5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400" spc="-1" strike="noStrike">
                <a:solidFill>
                  <a:srgbClr val="ffff00"/>
                </a:solidFill>
                <a:latin typeface="Arial"/>
              </a:rPr>
              <a:t>Протеини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1.2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0.2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ffff00"/>
                </a:solidFill>
                <a:latin typeface="Arial"/>
              </a:rPr>
              <a:t>Уреа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ffff00"/>
                </a:solidFill>
                <a:latin typeface="Arial"/>
              </a:rPr>
              <a:t>Остало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4.8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3.9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ffff00"/>
                </a:solidFill>
                <a:latin typeface="Arial"/>
              </a:rPr>
              <a:t>Укупно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 mOsm/l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301.8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300.8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30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1230480" y="6019920"/>
            <a:ext cx="690084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143000" y="6019920"/>
            <a:ext cx="72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000" spc="-1" strike="noStrike">
                <a:solidFill>
                  <a:srgbClr val="ffff00"/>
                </a:solidFill>
                <a:latin typeface="Arial"/>
              </a:rPr>
              <a:t>Коригована осмоларна активност </a:t>
            </a:r>
            <a:r>
              <a:rPr b="0" lang="sr-Latn-CS" sz="1000" spc="-1" strike="noStrike">
                <a:solidFill>
                  <a:srgbClr val="ffff00"/>
                </a:solidFill>
                <a:latin typeface="Arial"/>
              </a:rPr>
              <a:t>(mOsm/l)</a:t>
            </a:r>
            <a:r>
              <a:rPr b="0" lang="sr-Latn-CS" sz="1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282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281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2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3406680" y="892080"/>
            <a:ext cx="12193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ffff00"/>
                </a:solidFill>
                <a:latin typeface="Arial"/>
              </a:rPr>
              <a:t>Плазма</a:t>
            </a:r>
            <a:r>
              <a:rPr b="0" lang="sr-Latn-CS" sz="1200" spc="-1" strike="noStrike">
                <a:solidFill>
                  <a:srgbClr val="ffff00"/>
                </a:solidFill>
                <a:latin typeface="Arial"/>
              </a:rPr>
              <a:t> (mOsm/l H</a:t>
            </a:r>
            <a:r>
              <a:rPr b="0" lang="sr-Latn-CS" sz="1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sr-Latn-CS" sz="1200" spc="-1" strike="noStrike">
                <a:solidFill>
                  <a:srgbClr val="ffff00"/>
                </a:solidFill>
                <a:latin typeface="Arial"/>
              </a:rPr>
              <a:t>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5181480" y="893880"/>
            <a:ext cx="12193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ffff00"/>
                </a:solidFill>
                <a:latin typeface="Arial"/>
              </a:rPr>
              <a:t>Интерстиц.</a:t>
            </a:r>
            <a:r>
              <a:rPr b="0" lang="sr-Latn-CS" sz="1200" spc="-1" strike="noStrike">
                <a:solidFill>
                  <a:srgbClr val="ffff00"/>
                </a:solidFill>
                <a:latin typeface="Arial"/>
              </a:rPr>
              <a:t> (mOsm/l H</a:t>
            </a:r>
            <a:r>
              <a:rPr b="0" lang="sr-Latn-CS" sz="1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sr-Latn-CS" sz="1200" spc="-1" strike="noStrike">
                <a:solidFill>
                  <a:srgbClr val="ffff00"/>
                </a:solidFill>
                <a:latin typeface="Arial"/>
              </a:rPr>
              <a:t>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6781680" y="892080"/>
            <a:ext cx="12193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ffff00"/>
                </a:solidFill>
                <a:latin typeface="Arial"/>
              </a:rPr>
              <a:t>Интрацел.</a:t>
            </a:r>
            <a:r>
              <a:rPr b="0" lang="sr-Latn-CS" sz="1200" spc="-1" strike="noStrike">
                <a:solidFill>
                  <a:srgbClr val="ffff00"/>
                </a:solidFill>
                <a:latin typeface="Arial"/>
              </a:rPr>
              <a:t> (mOsm/l H</a:t>
            </a:r>
            <a:r>
              <a:rPr b="0" lang="sr-Latn-CS" sz="1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sr-Latn-CS" sz="1200" spc="-1" strike="noStrike">
                <a:solidFill>
                  <a:srgbClr val="ffff00"/>
                </a:solidFill>
                <a:latin typeface="Arial"/>
              </a:rPr>
              <a:t>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1217520" y="6323040"/>
            <a:ext cx="690084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1154160" y="6292800"/>
            <a:ext cx="72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000" spc="-1" strike="noStrike">
                <a:solidFill>
                  <a:srgbClr val="ffff00"/>
                </a:solidFill>
                <a:latin typeface="Arial"/>
              </a:rPr>
              <a:t>Укупан осмотски притисак на </a:t>
            </a:r>
            <a:r>
              <a:rPr b="0" lang="sr-Latn-CS" sz="1000" spc="-1" strike="noStrike">
                <a:solidFill>
                  <a:srgbClr val="ffff00"/>
                </a:solidFill>
                <a:latin typeface="Arial"/>
              </a:rPr>
              <a:t>37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°</a:t>
            </a:r>
            <a:r>
              <a:rPr b="0" lang="sr-Latn-CS" sz="1000" spc="-1" strike="noStrike">
                <a:solidFill>
                  <a:srgbClr val="ffff00"/>
                </a:solidFill>
                <a:latin typeface="Arial"/>
              </a:rPr>
              <a:t>C (mmHg)</a:t>
            </a:r>
            <a:r>
              <a:rPr b="0" lang="sr-Latn-CS" sz="1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5443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5423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54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7467480" y="31561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00" spc="-1" strike="noStrike">
                <a:solidFill>
                  <a:srgbClr val="ffff00"/>
                </a:solidFill>
                <a:latin typeface="Arial"/>
              </a:rPr>
              <a:t>80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1116000" y="1341360"/>
            <a:ext cx="7238520" cy="5025600"/>
            <a:chOff x="1116000" y="1341360"/>
            <a:chExt cx="7238520" cy="5025600"/>
          </a:xfrm>
        </p:grpSpPr>
        <p:sp>
          <p:nvSpPr>
            <p:cNvPr id="116" name="Rectangle 4"/>
            <p:cNvSpPr/>
            <p:nvPr/>
          </p:nvSpPr>
          <p:spPr>
            <a:xfrm>
              <a:off x="1204920" y="2059560"/>
              <a:ext cx="4825800" cy="34128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5"/>
            <p:cNvSpPr/>
            <p:nvPr/>
          </p:nvSpPr>
          <p:spPr>
            <a:xfrm>
              <a:off x="3618000" y="2059560"/>
              <a:ext cx="0" cy="3412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6"/>
            <p:cNvSpPr/>
            <p:nvPr/>
          </p:nvSpPr>
          <p:spPr>
            <a:xfrm>
              <a:off x="2188080" y="2059560"/>
              <a:ext cx="0" cy="3412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3081600" y="2059560"/>
              <a:ext cx="0" cy="3412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4576680" y="2059560"/>
              <a:ext cx="0" cy="3412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494680" y="2059560"/>
              <a:ext cx="0" cy="3412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0"/>
            <p:cNvSpPr/>
            <p:nvPr/>
          </p:nvSpPr>
          <p:spPr>
            <a:xfrm>
              <a:off x="3081600" y="2059560"/>
              <a:ext cx="536040" cy="3412800"/>
            </a:xfrm>
            <a:prstGeom prst="rect">
              <a:avLst/>
            </a:prstGeom>
            <a:solidFill>
              <a:srgbClr val="ffff00">
                <a:alpha val="26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1"/>
            <p:cNvSpPr/>
            <p:nvPr/>
          </p:nvSpPr>
          <p:spPr>
            <a:xfrm>
              <a:off x="5494680" y="2059560"/>
              <a:ext cx="536040" cy="3412800"/>
            </a:xfrm>
            <a:prstGeom prst="rect">
              <a:avLst/>
            </a:prstGeom>
            <a:solidFill>
              <a:srgbClr val="ffff00">
                <a:alpha val="26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2"/>
            <p:cNvSpPr/>
            <p:nvPr/>
          </p:nvSpPr>
          <p:spPr>
            <a:xfrm>
              <a:off x="1116000" y="1771560"/>
              <a:ext cx="1072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151.5 mmol/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3"/>
            <p:cNvSpPr/>
            <p:nvPr/>
          </p:nvSpPr>
          <p:spPr>
            <a:xfrm>
              <a:off x="2135880" y="1789920"/>
              <a:ext cx="1072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151.5 mmol/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4"/>
            <p:cNvSpPr/>
            <p:nvPr/>
          </p:nvSpPr>
          <p:spPr>
            <a:xfrm>
              <a:off x="3618000" y="1789920"/>
              <a:ext cx="1072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150 mmol/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5"/>
            <p:cNvSpPr/>
            <p:nvPr/>
          </p:nvSpPr>
          <p:spPr>
            <a:xfrm>
              <a:off x="4524840" y="1789920"/>
              <a:ext cx="1072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150 mmol/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6"/>
            <p:cNvSpPr/>
            <p:nvPr/>
          </p:nvSpPr>
          <p:spPr>
            <a:xfrm>
              <a:off x="1204920" y="2418840"/>
              <a:ext cx="1072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Na</a:t>
              </a:r>
              <a:r>
                <a:rPr b="0" lang="sr-Latn-CS" sz="900" spc="-1" strike="noStrike" baseline="30000">
                  <a:solidFill>
                    <a:srgbClr val="ffff00"/>
                  </a:solidFill>
                  <a:latin typeface="Arial"/>
                </a:rPr>
                <a:t>+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         14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7"/>
            <p:cNvSpPr/>
            <p:nvPr/>
          </p:nvSpPr>
          <p:spPr>
            <a:xfrm>
              <a:off x="1294560" y="2059560"/>
              <a:ext cx="80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900" spc="-1" strike="noStrike">
                  <a:solidFill>
                    <a:srgbClr val="ffff00"/>
                  </a:solidFill>
                  <a:latin typeface="Arial"/>
                </a:rPr>
                <a:t>КАТЈОН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8"/>
            <p:cNvSpPr/>
            <p:nvPr/>
          </p:nvSpPr>
          <p:spPr>
            <a:xfrm>
              <a:off x="3707280" y="2059560"/>
              <a:ext cx="80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900" spc="-1" strike="noStrike">
                  <a:solidFill>
                    <a:srgbClr val="ffff00"/>
                  </a:solidFill>
                  <a:latin typeface="Arial"/>
                </a:rPr>
                <a:t>КАТЈОН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9"/>
            <p:cNvSpPr/>
            <p:nvPr/>
          </p:nvSpPr>
          <p:spPr>
            <a:xfrm>
              <a:off x="2277360" y="2059560"/>
              <a:ext cx="80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900" spc="-1" strike="noStrike">
                  <a:solidFill>
                    <a:srgbClr val="ffff00"/>
                  </a:solidFill>
                  <a:latin typeface="Arial"/>
                </a:rPr>
                <a:t>АЊОН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20"/>
            <p:cNvSpPr/>
            <p:nvPr/>
          </p:nvSpPr>
          <p:spPr>
            <a:xfrm>
              <a:off x="4716360" y="2059560"/>
              <a:ext cx="80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900" spc="-1" strike="noStrike">
                  <a:solidFill>
                    <a:srgbClr val="ffff00"/>
                  </a:solidFill>
                  <a:latin typeface="Arial"/>
                </a:rPr>
                <a:t>АЊОН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21"/>
            <p:cNvSpPr/>
            <p:nvPr/>
          </p:nvSpPr>
          <p:spPr>
            <a:xfrm>
              <a:off x="3618000" y="2418840"/>
              <a:ext cx="1072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Na</a:t>
              </a:r>
              <a:r>
                <a:rPr b="0" lang="sr-Latn-CS" sz="900" spc="-1" strike="noStrike" baseline="30000">
                  <a:solidFill>
                    <a:srgbClr val="ffff00"/>
                  </a:solidFill>
                  <a:latin typeface="Arial"/>
                </a:rPr>
                <a:t>+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         14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22"/>
            <p:cNvSpPr/>
            <p:nvPr/>
          </p:nvSpPr>
          <p:spPr>
            <a:xfrm>
              <a:off x="1204920" y="4125600"/>
              <a:ext cx="1072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Ca</a:t>
              </a:r>
              <a:r>
                <a:rPr b="0" lang="sr-Latn-CS" sz="900" spc="-1" strike="noStrike" baseline="30000">
                  <a:solidFill>
                    <a:srgbClr val="ffff00"/>
                  </a:solidFill>
                  <a:latin typeface="Arial"/>
                </a:rPr>
                <a:t>2+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        2.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3"/>
            <p:cNvSpPr/>
            <p:nvPr/>
          </p:nvSpPr>
          <p:spPr>
            <a:xfrm>
              <a:off x="3618000" y="4125600"/>
              <a:ext cx="1072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Ca</a:t>
              </a:r>
              <a:r>
                <a:rPr b="0" lang="sr-Latn-CS" sz="900" spc="-1" strike="noStrike" baseline="30000">
                  <a:solidFill>
                    <a:srgbClr val="ffff00"/>
                  </a:solidFill>
                  <a:latin typeface="Arial"/>
                </a:rPr>
                <a:t>2+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        1.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24"/>
            <p:cNvSpPr/>
            <p:nvPr/>
          </p:nvSpPr>
          <p:spPr>
            <a:xfrm>
              <a:off x="1204920" y="4843800"/>
              <a:ext cx="107208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K</a:t>
              </a:r>
              <a:r>
                <a:rPr b="0" lang="sr-Latn-CS" sz="9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            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Mg</a:t>
              </a:r>
              <a:r>
                <a:rPr b="0" lang="sr-Latn-CS" sz="900" spc="-1" strike="noStrike" baseline="30000">
                  <a:solidFill>
                    <a:srgbClr val="ffff00"/>
                  </a:solidFill>
                  <a:latin typeface="Arial"/>
                </a:rPr>
                <a:t>2+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       1.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5"/>
            <p:cNvSpPr/>
            <p:nvPr/>
          </p:nvSpPr>
          <p:spPr>
            <a:xfrm>
              <a:off x="3618000" y="4843800"/>
              <a:ext cx="107208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K</a:t>
              </a:r>
              <a:r>
                <a:rPr b="0" lang="sr-Latn-CS" sz="900" spc="-1" strike="noStrike" baseline="30000">
                  <a:solidFill>
                    <a:srgbClr val="ffff00"/>
                  </a:solidFill>
                  <a:latin typeface="Arial"/>
                </a:rPr>
                <a:t>+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            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Mg</a:t>
              </a:r>
              <a:r>
                <a:rPr b="0" lang="sr-Latn-CS" sz="900" spc="-1" strike="noStrike" baseline="30000">
                  <a:solidFill>
                    <a:srgbClr val="ffff00"/>
                  </a:solidFill>
                  <a:latin typeface="Arial"/>
                </a:rPr>
                <a:t>2+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       1.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26"/>
            <p:cNvSpPr/>
            <p:nvPr/>
          </p:nvSpPr>
          <p:spPr>
            <a:xfrm>
              <a:off x="2188080" y="2598480"/>
              <a:ext cx="1072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CL</a:t>
              </a:r>
              <a:r>
                <a:rPr b="0" lang="sr-Latn-CS" sz="9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        10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27"/>
            <p:cNvSpPr/>
            <p:nvPr/>
          </p:nvSpPr>
          <p:spPr>
            <a:xfrm rot="16200000">
              <a:off x="1025280" y="3268440"/>
              <a:ext cx="1212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H+</a:t>
              </a:r>
              <a:r>
                <a:rPr b="0" lang="en-US" sz="900" spc="-1" strike="noStrike">
                  <a:solidFill>
                    <a:srgbClr val="ffff00"/>
                  </a:solidFill>
                  <a:latin typeface="Arial"/>
                </a:rPr>
                <a:t>=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40</a:t>
              </a:r>
              <a:r>
                <a:rPr b="0" lang="en-US" sz="900" spc="-1" strike="noStrike">
                  <a:solidFill>
                    <a:srgbClr val="ffff00"/>
                  </a:solidFill>
                  <a:latin typeface="Arial"/>
                </a:rPr>
                <a:t>±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2nmol/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28"/>
            <p:cNvSpPr/>
            <p:nvPr/>
          </p:nvSpPr>
          <p:spPr>
            <a:xfrm>
              <a:off x="4601160" y="2778480"/>
              <a:ext cx="1072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CL</a:t>
              </a:r>
              <a:r>
                <a:rPr b="0" lang="sr-Latn-CS" sz="9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        11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29"/>
            <p:cNvSpPr/>
            <p:nvPr/>
          </p:nvSpPr>
          <p:spPr>
            <a:xfrm>
              <a:off x="2188080" y="3227040"/>
              <a:ext cx="107208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HCO</a:t>
              </a:r>
              <a:r>
                <a:rPr b="0" lang="sr-Latn-CS" sz="9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sr-Latn-CS" sz="9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    2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30"/>
            <p:cNvSpPr/>
            <p:nvPr/>
          </p:nvSpPr>
          <p:spPr>
            <a:xfrm>
              <a:off x="2188080" y="3586680"/>
              <a:ext cx="107208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SO</a:t>
              </a:r>
              <a:r>
                <a:rPr b="0" lang="sr-Latn-CS" sz="9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sr-Latn-CS" sz="900" spc="-1" strike="noStrike" baseline="30000">
                  <a:solidFill>
                    <a:srgbClr val="ffff00"/>
                  </a:solidFill>
                  <a:latin typeface="Arial"/>
                </a:rPr>
                <a:t>2-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     0.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31"/>
            <p:cNvSpPr/>
            <p:nvPr/>
          </p:nvSpPr>
          <p:spPr>
            <a:xfrm>
              <a:off x="2188080" y="3945600"/>
              <a:ext cx="107208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PO</a:t>
              </a:r>
              <a:r>
                <a:rPr b="0" lang="sr-Latn-CS" sz="900" spc="-1" strike="noStrike" baseline="-25000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sr-Latn-CS" sz="900" spc="-1" strike="noStrike" baseline="30000">
                  <a:solidFill>
                    <a:srgbClr val="ffff00"/>
                  </a:solidFill>
                  <a:latin typeface="Arial"/>
                </a:rPr>
                <a:t>3-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       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32"/>
            <p:cNvSpPr/>
            <p:nvPr/>
          </p:nvSpPr>
          <p:spPr>
            <a:xfrm>
              <a:off x="2148840" y="4574520"/>
              <a:ext cx="1072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900" spc="-1" strike="noStrike">
                  <a:solidFill>
                    <a:srgbClr val="ffff00"/>
                  </a:solidFill>
                  <a:latin typeface="Arial"/>
                </a:rPr>
                <a:t>Органске киселине и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 19 protein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33"/>
            <p:cNvSpPr/>
            <p:nvPr/>
          </p:nvSpPr>
          <p:spPr>
            <a:xfrm>
              <a:off x="4601160" y="3227040"/>
              <a:ext cx="107208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HCO</a:t>
              </a:r>
              <a:r>
                <a:rPr b="0" lang="sr-Latn-CS" sz="9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sr-Latn-CS" sz="9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    3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34"/>
            <p:cNvSpPr/>
            <p:nvPr/>
          </p:nvSpPr>
          <p:spPr>
            <a:xfrm>
              <a:off x="4601160" y="3586680"/>
              <a:ext cx="107208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SO</a:t>
              </a:r>
              <a:r>
                <a:rPr b="0" lang="sr-Latn-CS" sz="9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sr-Latn-CS" sz="900" spc="-1" strike="noStrike" baseline="30000">
                  <a:solidFill>
                    <a:srgbClr val="ffff00"/>
                  </a:solidFill>
                  <a:latin typeface="Arial"/>
                </a:rPr>
                <a:t>2-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       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35"/>
            <p:cNvSpPr/>
            <p:nvPr/>
          </p:nvSpPr>
          <p:spPr>
            <a:xfrm>
              <a:off x="4601160" y="3945600"/>
              <a:ext cx="107208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PO</a:t>
              </a:r>
              <a:r>
                <a:rPr b="0" lang="sr-Latn-CS" sz="900" spc="-1" strike="noStrike" baseline="-25000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sr-Latn-CS" sz="900" spc="-1" strike="noStrike" baseline="30000">
                  <a:solidFill>
                    <a:srgbClr val="ffff00"/>
                  </a:solidFill>
                  <a:latin typeface="Arial"/>
                </a:rPr>
                <a:t>3-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       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36"/>
            <p:cNvSpPr/>
            <p:nvPr/>
          </p:nvSpPr>
          <p:spPr>
            <a:xfrm>
              <a:off x="4537800" y="4574520"/>
              <a:ext cx="1072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900" spc="-1" strike="noStrike">
                  <a:solidFill>
                    <a:srgbClr val="ffff00"/>
                  </a:solidFill>
                  <a:latin typeface="Arial"/>
                </a:rPr>
                <a:t>Органске киселине и  4 протеин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37"/>
            <p:cNvSpPr/>
            <p:nvPr/>
          </p:nvSpPr>
          <p:spPr>
            <a:xfrm rot="16200000">
              <a:off x="2166840" y="2973600"/>
              <a:ext cx="228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200" spc="-1" strike="noStrike">
                  <a:solidFill>
                    <a:srgbClr val="ffff00"/>
                  </a:solidFill>
                  <a:latin typeface="Arial"/>
                </a:rPr>
                <a:t>КАПИЛАРНИ            ЗИ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8"/>
            <p:cNvSpPr/>
            <p:nvPr/>
          </p:nvSpPr>
          <p:spPr>
            <a:xfrm>
              <a:off x="2992680" y="2957760"/>
              <a:ext cx="8042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2992680" y="3189960"/>
              <a:ext cx="8042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40"/>
            <p:cNvSpPr/>
            <p:nvPr/>
          </p:nvSpPr>
          <p:spPr>
            <a:xfrm>
              <a:off x="2954880" y="2933640"/>
              <a:ext cx="1072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900" spc="-1" strike="noStrike">
                  <a:solidFill>
                    <a:srgbClr val="ffff00"/>
                  </a:solidFill>
                  <a:latin typeface="Arial"/>
                </a:rPr>
                <a:t>еквилибријум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416560" y="2968920"/>
              <a:ext cx="8042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5416560" y="3200760"/>
              <a:ext cx="8042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43"/>
            <p:cNvSpPr/>
            <p:nvPr/>
          </p:nvSpPr>
          <p:spPr>
            <a:xfrm>
              <a:off x="5379480" y="2944800"/>
              <a:ext cx="1072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sr-CS" sz="900" spc="-1" strike="noStrike">
                  <a:solidFill>
                    <a:srgbClr val="ffff00"/>
                  </a:solidFill>
                  <a:latin typeface="Arial"/>
                </a:rPr>
                <a:t>градијен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4"/>
            <p:cNvSpPr/>
            <p:nvPr/>
          </p:nvSpPr>
          <p:spPr>
            <a:xfrm>
              <a:off x="6030720" y="1610640"/>
              <a:ext cx="2055600" cy="386172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014240" y="1610640"/>
              <a:ext cx="0" cy="38617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6"/>
            <p:cNvSpPr/>
            <p:nvPr/>
          </p:nvSpPr>
          <p:spPr>
            <a:xfrm>
              <a:off x="7014240" y="1610640"/>
              <a:ext cx="0" cy="34124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47"/>
            <p:cNvSpPr/>
            <p:nvPr/>
          </p:nvSpPr>
          <p:spPr>
            <a:xfrm>
              <a:off x="6030720" y="2239560"/>
              <a:ext cx="1072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Na</a:t>
              </a:r>
              <a:r>
                <a:rPr b="0" lang="sr-Latn-CS" sz="900" spc="-1" strike="noStrike" baseline="30000">
                  <a:solidFill>
                    <a:srgbClr val="ffff00"/>
                  </a:solidFill>
                  <a:latin typeface="Arial"/>
                </a:rPr>
                <a:t>+          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10-1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48"/>
            <p:cNvSpPr/>
            <p:nvPr/>
          </p:nvSpPr>
          <p:spPr>
            <a:xfrm>
              <a:off x="6120360" y="1610640"/>
              <a:ext cx="80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900" spc="-1" strike="noStrike">
                  <a:solidFill>
                    <a:srgbClr val="ffff00"/>
                  </a:solidFill>
                  <a:latin typeface="Arial"/>
                </a:rPr>
                <a:t>КАТЈОН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49"/>
            <p:cNvSpPr/>
            <p:nvPr/>
          </p:nvSpPr>
          <p:spPr>
            <a:xfrm>
              <a:off x="6030720" y="3765960"/>
              <a:ext cx="107208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Ca</a:t>
              </a:r>
              <a:r>
                <a:rPr b="0" lang="sr-Latn-CS" sz="900" spc="-1" strike="noStrike" baseline="30000">
                  <a:solidFill>
                    <a:srgbClr val="ffff00"/>
                  </a:solidFill>
                  <a:latin typeface="Arial"/>
                </a:rPr>
                <a:t>2+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  </a:t>
              </a:r>
              <a:r>
                <a:rPr b="0" lang="en-US" sz="900" spc="-1" strike="noStrike">
                  <a:solidFill>
                    <a:srgbClr val="ffff00"/>
                  </a:solidFill>
                  <a:latin typeface="Arial"/>
                </a:rPr>
                <a:t>µ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mol/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  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(10</a:t>
              </a:r>
              <a:r>
                <a:rPr b="0" lang="sr-Latn-CS" sz="900" spc="-1" strike="noStrike" baseline="30000">
                  <a:solidFill>
                    <a:srgbClr val="ffff00"/>
                  </a:solidFill>
                  <a:latin typeface="Arial"/>
                </a:rPr>
                <a:t>-7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mol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50"/>
            <p:cNvSpPr/>
            <p:nvPr/>
          </p:nvSpPr>
          <p:spPr>
            <a:xfrm>
              <a:off x="6030720" y="4781880"/>
              <a:ext cx="107208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K</a:t>
              </a:r>
              <a:r>
                <a:rPr b="0" lang="sr-Latn-CS" sz="900" spc="-1" strike="noStrike" baseline="30000">
                  <a:solidFill>
                    <a:srgbClr val="ffff00"/>
                  </a:solidFill>
                  <a:latin typeface="Arial"/>
                </a:rPr>
                <a:t>+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            15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Mg</a:t>
              </a:r>
              <a:r>
                <a:rPr b="0" lang="sr-Latn-CS" sz="900" spc="-1" strike="noStrike" baseline="30000">
                  <a:solidFill>
                    <a:srgbClr val="ffff00"/>
                  </a:solidFill>
                  <a:latin typeface="Arial"/>
                </a:rPr>
                <a:t>2+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         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51"/>
            <p:cNvSpPr/>
            <p:nvPr/>
          </p:nvSpPr>
          <p:spPr>
            <a:xfrm>
              <a:off x="7192800" y="1623600"/>
              <a:ext cx="80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900" spc="-1" strike="noStrike">
                  <a:solidFill>
                    <a:srgbClr val="ffff00"/>
                  </a:solidFill>
                  <a:latin typeface="Arial"/>
                </a:rPr>
                <a:t>АЊОН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52"/>
            <p:cNvSpPr/>
            <p:nvPr/>
          </p:nvSpPr>
          <p:spPr>
            <a:xfrm>
              <a:off x="6989760" y="2508840"/>
              <a:ext cx="1185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CL</a:t>
              </a:r>
              <a:r>
                <a:rPr b="0" lang="sr-Latn-CS" sz="9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                 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53"/>
            <p:cNvSpPr/>
            <p:nvPr/>
          </p:nvSpPr>
          <p:spPr>
            <a:xfrm>
              <a:off x="6989760" y="2905560"/>
              <a:ext cx="136476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HCO</a:t>
              </a:r>
              <a:r>
                <a:rPr b="0" lang="sr-Latn-CS" sz="9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sr-Latn-CS" sz="9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         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54"/>
            <p:cNvSpPr/>
            <p:nvPr/>
          </p:nvSpPr>
          <p:spPr>
            <a:xfrm>
              <a:off x="6989760" y="3264480"/>
              <a:ext cx="107208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SO</a:t>
              </a:r>
              <a:r>
                <a:rPr b="0" lang="sr-Latn-CS" sz="9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sr-Latn-CS" sz="900" spc="-1" strike="noStrike" baseline="30000">
                  <a:solidFill>
                    <a:srgbClr val="ffff00"/>
                  </a:solidFill>
                  <a:latin typeface="Arial"/>
                </a:rPr>
                <a:t>2-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55"/>
            <p:cNvSpPr/>
            <p:nvPr/>
          </p:nvSpPr>
          <p:spPr>
            <a:xfrm>
              <a:off x="6989760" y="3624120"/>
              <a:ext cx="107208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PO</a:t>
              </a:r>
              <a:r>
                <a:rPr b="0" lang="sr-Latn-CS" sz="900" spc="-1" strike="noStrike" baseline="-25000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sr-Latn-CS" sz="900" spc="-1" strike="noStrike" baseline="30000">
                  <a:solidFill>
                    <a:srgbClr val="ffff00"/>
                  </a:solidFill>
                  <a:latin typeface="Arial"/>
                </a:rPr>
                <a:t>3-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6"/>
            <p:cNvSpPr/>
            <p:nvPr/>
          </p:nvSpPr>
          <p:spPr>
            <a:xfrm>
              <a:off x="6950880" y="4252680"/>
              <a:ext cx="11354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900" spc="-1" strike="noStrike">
                  <a:solidFill>
                    <a:srgbClr val="ffff00"/>
                  </a:solidFill>
                  <a:latin typeface="Arial"/>
                </a:rPr>
                <a:t>Органске киселине и      90 протеин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57"/>
            <p:cNvSpPr/>
            <p:nvPr/>
          </p:nvSpPr>
          <p:spPr>
            <a:xfrm>
              <a:off x="6120360" y="1341360"/>
              <a:ext cx="1072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185 mmol/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58"/>
            <p:cNvSpPr/>
            <p:nvPr/>
          </p:nvSpPr>
          <p:spPr>
            <a:xfrm>
              <a:off x="7027200" y="1341360"/>
              <a:ext cx="1072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185 mmol/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59"/>
            <p:cNvSpPr/>
            <p:nvPr/>
          </p:nvSpPr>
          <p:spPr>
            <a:xfrm rot="16200000">
              <a:off x="4615560" y="4098600"/>
              <a:ext cx="228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200" spc="-1" strike="noStrike">
                  <a:solidFill>
                    <a:srgbClr val="ffff00"/>
                  </a:solidFill>
                  <a:latin typeface="Arial"/>
                </a:rPr>
                <a:t>ЋЕЛИЈСКА МЕМБРА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60"/>
            <p:cNvSpPr/>
            <p:nvPr/>
          </p:nvSpPr>
          <p:spPr>
            <a:xfrm>
              <a:off x="1212480" y="5451840"/>
              <a:ext cx="4289400" cy="915120"/>
            </a:xfrm>
            <a:custGeom>
              <a:avLst/>
              <a:gdLst>
                <a:gd name="textAreaLeft" fmla="*/ 0 w 4289400"/>
                <a:gd name="textAreaRight" fmla="*/ 4289760 w 4289400"/>
                <a:gd name="textAreaTop" fmla="*/ 0 h 915120"/>
                <a:gd name="textAreaBottom" fmla="*/ 915480 h 915120"/>
              </a:gdLst>
              <a:ahLst/>
              <a:rect l="textAreaLeft" t="textAreaTop" r="textAreaRight" b="textAreaBottom"/>
              <a:pathLst>
                <a:path w="2304" h="489">
                  <a:moveTo>
                    <a:pt x="0" y="13"/>
                  </a:moveTo>
                  <a:lnTo>
                    <a:pt x="0" y="489"/>
                  </a:lnTo>
                  <a:lnTo>
                    <a:pt x="2304" y="489"/>
                  </a:lnTo>
                  <a:lnTo>
                    <a:pt x="2304" y="0"/>
                  </a:lnTo>
                </a:path>
              </a:pathLst>
            </a:custGeom>
            <a:noFill/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61"/>
            <p:cNvSpPr/>
            <p:nvPr/>
          </p:nvSpPr>
          <p:spPr>
            <a:xfrm>
              <a:off x="6027480" y="5451840"/>
              <a:ext cx="2056680" cy="915120"/>
            </a:xfrm>
            <a:custGeom>
              <a:avLst/>
              <a:gdLst>
                <a:gd name="textAreaLeft" fmla="*/ 0 w 2056680"/>
                <a:gd name="textAreaRight" fmla="*/ 2057040 w 2056680"/>
                <a:gd name="textAreaTop" fmla="*/ 0 h 915120"/>
                <a:gd name="textAreaBottom" fmla="*/ 915480 h 915120"/>
              </a:gdLst>
              <a:ahLst/>
              <a:rect l="textAreaLeft" t="textAreaTop" r="textAreaRight" b="textAreaBottom"/>
              <a:pathLst>
                <a:path w="1105" h="489">
                  <a:moveTo>
                    <a:pt x="0" y="0"/>
                  </a:moveTo>
                  <a:lnTo>
                    <a:pt x="6" y="482"/>
                  </a:lnTo>
                  <a:lnTo>
                    <a:pt x="1105" y="489"/>
                  </a:lnTo>
                  <a:lnTo>
                    <a:pt x="1098" y="7"/>
                  </a:lnTo>
                </a:path>
              </a:pathLst>
            </a:custGeom>
            <a:noFill/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62"/>
            <p:cNvSpPr/>
            <p:nvPr/>
          </p:nvSpPr>
          <p:spPr>
            <a:xfrm>
              <a:off x="1830600" y="5562000"/>
              <a:ext cx="80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900" spc="-1" strike="noStrike">
                  <a:solidFill>
                    <a:srgbClr val="ffff00"/>
                  </a:solidFill>
                  <a:latin typeface="Arial"/>
                </a:rPr>
                <a:t>Плазм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63"/>
            <p:cNvSpPr/>
            <p:nvPr/>
          </p:nvSpPr>
          <p:spPr>
            <a:xfrm>
              <a:off x="3618000" y="5562000"/>
              <a:ext cx="169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900" spc="-1" strike="noStrike">
                  <a:solidFill>
                    <a:srgbClr val="ffff00"/>
                  </a:solidFill>
                  <a:latin typeface="Arial"/>
                </a:rPr>
                <a:t>Плазмаинтерстицијумска течнос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2456280" y="6100920"/>
              <a:ext cx="2055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900" spc="-1" strike="noStrike">
                  <a:solidFill>
                    <a:srgbClr val="ffff00"/>
                  </a:solidFill>
                  <a:latin typeface="Arial"/>
                </a:rPr>
                <a:t>Екстрацелуларна течност  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(ECT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65"/>
            <p:cNvSpPr/>
            <p:nvPr/>
          </p:nvSpPr>
          <p:spPr>
            <a:xfrm>
              <a:off x="6030720" y="6100920"/>
              <a:ext cx="2055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900" spc="-1" strike="noStrike">
                  <a:solidFill>
                    <a:srgbClr val="ffff00"/>
                  </a:solidFill>
                  <a:latin typeface="Arial"/>
                </a:rPr>
                <a:t>Интрацелуларна течност  </a:t>
              </a:r>
              <a:r>
                <a:rPr b="0" lang="sr-Latn-CS" sz="900" spc="-1" strike="noStrike">
                  <a:solidFill>
                    <a:srgbClr val="ffff00"/>
                  </a:solidFill>
                  <a:latin typeface="Arial"/>
                </a:rPr>
                <a:t>(ICT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angle 65"/>
          <p:cNvSpPr/>
          <p:nvPr/>
        </p:nvSpPr>
        <p:spPr>
          <a:xfrm>
            <a:off x="250920" y="54936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Расподела електролита у телесним компартман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Text Box 2" descr=""/>
          <p:cNvPicPr/>
          <p:nvPr/>
        </p:nvPicPr>
        <p:blipFill>
          <a:blip r:embed="rId1"/>
          <a:stretch/>
        </p:blipFill>
        <p:spPr>
          <a:xfrm>
            <a:off x="-6480" y="2639880"/>
            <a:ext cx="915696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3"/>
          <p:cNvSpPr/>
          <p:nvPr/>
        </p:nvSpPr>
        <p:spPr>
          <a:xfrm>
            <a:off x="1828800" y="685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33ff"/>
                </a:solidFill>
                <a:latin typeface="MyriadPro-Black"/>
              </a:rPr>
              <a:t>ФУНКЦИОНАЛНА АНАТОМИЈА ГАСТРОИНТЕСТИНАЛНОГ ТРА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C:\Users\Vladimir Zivkovic\Desktop\GANONG\SLIKE\XXV POGLAVLjE\PNG\Gano024_Fig_25-01.png"/>
          <p:cNvPicPr/>
          <p:nvPr/>
        </p:nvPicPr>
        <p:blipFill>
          <a:blip r:embed="rId1"/>
          <a:stretch/>
        </p:blipFill>
        <p:spPr>
          <a:xfrm>
            <a:off x="1523880" y="1752480"/>
            <a:ext cx="5908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C:\Users\Vladimir Zivkovic\Desktop\GANONG\SLIKE\XXV POGLAVLjE\PNG\Gano024_Fig_25-02.png"/>
          <p:cNvPicPr/>
          <p:nvPr/>
        </p:nvPicPr>
        <p:blipFill>
          <a:blip r:embed="rId1"/>
          <a:stretch/>
        </p:blipFill>
        <p:spPr>
          <a:xfrm>
            <a:off x="152280" y="1295280"/>
            <a:ext cx="4016520" cy="44388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4"/>
          <p:cNvSpPr/>
          <p:nvPr/>
        </p:nvSpPr>
        <p:spPr>
          <a:xfrm>
            <a:off x="4191120" y="1219320"/>
            <a:ext cx="4572000" cy="41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ђа цревних ресица и крип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пителн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ј садржи разбацане ендокрине ћелије и интраепител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мфоц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бази крипти налазе се Панетове (луче антимикробне пептиде) и матичне ћелиј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ки дигестивн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нзими могу бити део четкастог покрова – тзв. „хидролазе четкастог покрова” (завршни степ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градње хранљивих материј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Епител се обнавља сваких 3–5 дана код здравих одраслих особ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33ff"/>
                </a:solidFill>
                <a:latin typeface="MyriadPro-Black"/>
              </a:rPr>
              <a:t>ИНТЕСТИНАЛНА ТЕЧ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стинална течност – течни садржај из мукозе гастроинтестиналног тракта (и придружених жлез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исти се у току варења и апсорпције (за време обро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нспортује се назад кроз епител да би се избегла дехидратација (након обро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стинална течност се креће у оба смера пасивно према електрохемијским градијентим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стали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им транспортом јона (пре свег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других растворених супстанц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невно се у танко црево храном унесе око 2.000 ml теч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невно се из мукозе ГИТ-а и жлезда створи још 7.000 ml секр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еапсорбује се 98% те течности, а само 200 ml течности се дневно губи столиц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33ff"/>
                </a:solidFill>
                <a:latin typeface="MyriadPro-Black"/>
              </a:rPr>
              <a:t>Дневни промет воде (ml) у гастроинтестиналном трак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0483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33ff"/>
                </a:solidFill>
                <a:latin typeface="MyriadPro-Black"/>
              </a:rPr>
              <a:t>АПСОРПЦИЈА НАТРИЈУМА И ХЛОРИДА</a:t>
            </a:r>
            <a:br>
              <a:rPr sz="1800"/>
            </a:br>
            <a:r>
              <a:rPr b="1" lang="en-US" sz="1800" spc="-1" strike="noStrike">
                <a:solidFill>
                  <a:srgbClr val="4d33ff"/>
                </a:solidFill>
                <a:latin typeface="MyriadPro-Black"/>
              </a:rPr>
              <a:t>*општи принцип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периоду између оброк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да нема хранљивих материја, натријум и хлориди се апсорбују заједно из лумена црева удруженим дејством два измењивача на апикалној мембра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тзв. електронеутралном механизм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натријум-водоник измењивача (NHE)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хлорид-бикарбонат измењивач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ода се затим креће са циљем да се одржава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осмотска равнотеж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C:\Users\Vladimir Zivkovic\Desktop\GANONG\SLIKE\XXV POGLAVLjE\PNG\Gano024_Fig_25-17.png"/>
          <p:cNvPicPr/>
          <p:nvPr/>
        </p:nvPicPr>
        <p:blipFill>
          <a:blip r:embed="rId1"/>
          <a:stretch/>
        </p:blipFill>
        <p:spPr>
          <a:xfrm>
            <a:off x="324000" y="3573360"/>
            <a:ext cx="3456000" cy="309564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4"/>
          <p:cNvSpPr/>
          <p:nvPr/>
        </p:nvSpPr>
        <p:spPr>
          <a:xfrm>
            <a:off x="4140360" y="4869000"/>
            <a:ext cx="4572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псорпција NaCl у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нком цреву и колон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NaCl пролази преко апикалне мемб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редство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HE и C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лијум/хлорид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транспортер (KCC1) на базолатералној мембрани омогућав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лазак хлорида, док се натријум избацује помоћу Na, K ATP-аз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33ff"/>
                </a:solidFill>
                <a:latin typeface="MyriadPro-Black"/>
              </a:rPr>
              <a:t>АПСОРПЦИЈА НАТРИЈУМА У КОЛ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колону постоји додатн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лектрогени механизам за апсорпцију натрију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овом механизму, натријум улази кроз апикалну мембрану преко епителног натријумског канала (ENa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ви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 додатно повећава способност колона да ресорбује воду из столице и осигура да се само мали део интестиналне течности губи из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храном са ниским уносом соли се повећава активност ENaC под дејством алдостерона па се повећава и реасорпција натријума из столи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C:\Users\Vladimir Zivkovic\Desktop\GANONG\SLIKE\XXV POGLAVLjE\PNG\Gano024_Fig_25-18.png"/>
          <p:cNvPicPr/>
          <p:nvPr/>
        </p:nvPicPr>
        <p:blipFill>
          <a:blip r:embed="rId1"/>
          <a:stretch/>
        </p:blipFill>
        <p:spPr>
          <a:xfrm>
            <a:off x="684360" y="4005360"/>
            <a:ext cx="2868480" cy="26636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5"/>
          <p:cNvSpPr/>
          <p:nvPr/>
        </p:nvSpPr>
        <p:spPr>
          <a:xfrm>
            <a:off x="3851280" y="5229360"/>
            <a:ext cx="45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лектрогена апсорпција натријума из кол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тријум улази у епителне ћелије кроз апикал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тријумове канале (ENaC), а излази из њих помоћу Na, K ATP-аз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33ff"/>
                </a:solidFill>
                <a:latin typeface="MyriadPro-Black"/>
              </a:rPr>
              <a:t>Специчности секреције хлор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лно улази у ентероците из интерстицијумске течности преко Na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K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2Cl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транспортера (NKCC1) на базолатералној мембра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 затим секретује у лумен црева преко канала канал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гулатор-трансмембранске проводљивости-цистичк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брозе (CFT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 цистичке фиброзе је оштећен канал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гулатор-трансмембранске проводљивости-цистичк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брозе (CFTR) и то представља најважнији разлог за настанак боле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4067280" y="4869000"/>
            <a:ext cx="4572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креција хлорида у танком цреву и коло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узимање хлорида у ћелију одвија се путем натријум/калијум котранспортера (NKCC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лорид излази из ћелије преко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нала-регулатора-трансмембранске проводљивости–цистич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фиброзе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ystic fibrosis transmembrane conductance regulator – CFT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C:\Users\Vladimir Zivkovic\Desktop\GANONG\SLIKE\XXV POGLAVLjE\PNG\Gano024_Fig_25-19.png"/>
          <p:cNvPicPr/>
          <p:nvPr/>
        </p:nvPicPr>
        <p:blipFill>
          <a:blip r:embed="rId1"/>
          <a:stretch/>
        </p:blipFill>
        <p:spPr>
          <a:xfrm>
            <a:off x="684360" y="3573360"/>
            <a:ext cx="31669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Text Box 2" descr=""/>
          <p:cNvPicPr/>
          <p:nvPr/>
        </p:nvPicPr>
        <p:blipFill>
          <a:blip r:embed="rId1"/>
          <a:stretch/>
        </p:blipFill>
        <p:spPr>
          <a:xfrm>
            <a:off x="-6480" y="2639880"/>
            <a:ext cx="915696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33ff"/>
                </a:solidFill>
                <a:latin typeface="MyriadPro-Black"/>
              </a:rPr>
              <a:t>СЕКРЕЦИЈА КАЛИЈ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+ се секретује у лумен црева (у саставу слузи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+ канали су смештени на луминалној и базолатералној страни ентероцита колона, тако да се К+ секретује у кол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ред тога, К+ се креће пасивно према свом електрохемијском градијен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кумулација К+ у колону је делимично неутралисана H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K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ATP-азом на луминалној страни мембране ћелија дисталног колона (активно транспортује К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 ћелиј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убитак течности из илеума и колона због хроничних дијареја може довести до озбиљне хипокалијем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да се исхраном дуготрајно уносе велике количине К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олази до повећане секреције алдостерона, па се више К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екретује у лумен кол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 је делимично последица пораста броја Na, K ATP-азних пумпи на базолатералној страни ћелијских мембр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 има за последицу пораст интрацелуларне концентрације К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његову дифузију кроз луминалне мембране ћелија у лумен цре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33ff"/>
                </a:solidFill>
                <a:latin typeface="MyriadPro-Black"/>
              </a:rPr>
              <a:t>ТРАНСПОРТНИ ПРОЦЕСИ В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Апсорпција воде прати апсорпцију натријума и хлорид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вратите се на слајд 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а улази у лумен црева или излази из њега све док се осмотски притисак цревног садржаја не изједначи са плазм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молалност дуоденалног садржаја може бити хипертонична или хипотонична, зависно од унетог оброка, али када садржај уђе у јејунум, његова осмолалност је приближна осмолалности плаз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мотски активне честице настале у процесу варења се одстрањују апсорпцијом, а вода пасивно излази из лумена црева услед осмотског градијента који настаје апсорпцијом чест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 из лумена колона активно испумпава, а вода га пасивно прати услед осмотског градиј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ли са лаксативним својствима (као што је магнезијум-сулфат) се слабо апсорбују и тако задржавају осмотски еквивалентну количину воде у цреву, што повећава запремину цревног садржаја, а као последица настаје лаксативни ефек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33ff"/>
                </a:solidFill>
                <a:latin typeface="MyriadPro-Black"/>
              </a:rPr>
              <a:t>АПСОРПЦИЈА КАЛЦИЈУМА</a:t>
            </a:r>
            <a:br>
              <a:rPr sz="1800"/>
            </a:br>
            <a:r>
              <a:rPr b="1" lang="en-US" sz="1800" spc="-1" strike="noStrike">
                <a:solidFill>
                  <a:srgbClr val="4d33ff"/>
                </a:solidFill>
                <a:latin typeface="MyriadPro-Black"/>
              </a:rPr>
              <a:t>*механизам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м младог мушкарца садржи око 1.100 g (27,5 mol) калциј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иолошка концентрација калцијума у плазми износи око 10 mg/dl (5 mEq/l, 2,5 mmol/l) и састоји се од еквивалентних фракција везаних за протеине и слободног калцијума у јонизованом обли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организму се апсорбује 30–80% храном унетог калциј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 транспортује преко четкастог покрова епителних ћелија у цревима путем канала који се зову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анилоидни транзиторни рецептори тип 6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енгл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ransie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ceptor potential vanilloid type 6 – TRPV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 потом везуј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интрацелуларни протеин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албиндин-D9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Kалбиндин-D9k секвестрира апсорбовани калцијум тако да он не утиче на епителне сигналне процесе који укључују Ca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сорбовани калцијум се допрема до базолатералне мембране епителне ћелије црева, одакле се транспортује у крвоток прек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Na</a:t>
            </a:r>
            <a:r>
              <a:rPr b="0" lang="ru-RU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/ Ca</a:t>
            </a:r>
            <a:r>
              <a:rPr b="0" lang="ru-RU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+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нтратранспортера (NCX1) или Ca</a:t>
            </a:r>
            <a:r>
              <a:rPr b="0" lang="ru-RU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+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-зависне ATP-а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2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33ff"/>
                </a:solidFill>
                <a:latin typeface="MyriadPro-Black"/>
              </a:rPr>
              <a:t>УЛОГА КАЛЦИТРИОЛА У АПСОРПЦИЈИ КАЛЦИЈ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50920" y="907560"/>
            <a:ext cx="8447040" cy="33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плетан процес транспорта калцијума регулише  калцитриол (1,25-дихидроксихолекалциферол) - активна форма витамин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D (витамин D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да се преузимање Ca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већава, ниво калцитриола се смањује као одговор на повећање концентрације Ca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 плаз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ед повећања апсорпције Ca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црева калцитрио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убрзава реапсорпцију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бубрега (повећањем експресије TRVP5 у прокисмалним тубулима бубрега) и повећава отпуштање Ca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ст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C:\Users\Vladimir Zivkovic\Desktop\GANONG\SLIKE\XXI POGLAVLjE\PNG\Gan024_Deo_21-02.png"/>
          <p:cNvPicPr/>
          <p:nvPr/>
        </p:nvPicPr>
        <p:blipFill>
          <a:blip r:embed="rId1"/>
          <a:stretch/>
        </p:blipFill>
        <p:spPr>
          <a:xfrm>
            <a:off x="2050920" y="3357720"/>
            <a:ext cx="54802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33ff"/>
                </a:solidFill>
                <a:latin typeface="MyriadPro-Black"/>
              </a:rPr>
              <a:t>Фактори који утичу на апсорпцију калциј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8360" y="1557360"/>
            <a:ext cx="82296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Апсорпција С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 прилагођава потребама организ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апсорпција С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 повећава када постоји његов недостат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апсорпција С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 смањује када постоји више С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го што је потреб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Апсорпција С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 повећава у присуству проте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Апсорпција С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 смањује у присуству фосфата и оксалат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ови анјони формирају нерастворљиве соли са Са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у лумену танког цре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теини у цревном садржају повећавају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апсорпцију магнезиј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33ff"/>
                </a:solidFill>
                <a:latin typeface="MyriadPro-Black"/>
              </a:rPr>
              <a:t>Апсорпција фосф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50920" y="1125360"/>
            <a:ext cx="844704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сфати се налазе у AТP-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P-у, 2,3-DPG-у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еинима и другим виталним компонентама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упна количина фосфора у организму износи од 500 до 800 g (16,1–25,8 mol), од чега се у скелету налази 85–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упна концентрација фосфора у плазми износи 12 mg/dl, од чега је две трећине у органској форми, док је остатак у облику неорганског фосфора (Pi), највише у облик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HP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Pi се апсорбује у дуоденуму и танком цре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сорпција је посредована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натријум-зависним котранспортером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(NaPi-II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вај транспортер је веома активан у случају ниске интрацелуларне конц. натријума (активношћу Na, K ATP-азе на базолатералној мембрани епителних ћелија црева) који транспортује Pi супротн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његовом концентрационом градијен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* Калцитриол такође повећава апсорпциј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Pi дејством на NaPi-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33ff"/>
                </a:solidFill>
                <a:latin typeface="MyriadPro-Black"/>
              </a:rPr>
              <a:t>Промет гвожђа у организ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3640" y="1557360"/>
            <a:ext cx="844524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битак гвожђа из организма је релативно мали код одраслих осо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ако је на губитак гвожђа (готово) немогуће утицати укупне залихе гвожђа у организму се регулишу променом брзине којом се гвожђе апсорбује из танког цр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шкарци дневно губе око 0,6 mg гвожђа, углавном преко столи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не пре менопаузе имају променљиви дневни губитак гвожђа који је у просеку двоструко већи него код мушкараца због додатног менструалног губитка гвожђ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ечан дневни унос гвожђа у Сједињеним Државама и Европи износи око 20 mg, али апсорбована количина само покрива дневни губит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33ff"/>
                </a:solidFill>
                <a:latin typeface="MyriadPro-Black"/>
              </a:rPr>
              <a:t>Фактори који утичу на апсорпцију гвожђ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23640" y="1557360"/>
            <a:ext cx="844524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ревну апсорпцију гвожђа регулишу тр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глав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актор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непосредан унос гвожђ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стање залиха гвожђа у организ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величина еритропоезе у костној ср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лан однос ових фактора у одржавању баланса гвожђ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ктори који се налазе у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хра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тичу на могућност апсорпције гвожђ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фитична киселина која се налази у житарицама реагује са гвожђем и формира нерастворљиве структур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то смањује апсорпцију гвожђ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сфати  и оксалати такође сличним механизмом смањују апсорпцију гвожђ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витамини А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већавају апсорпцију гвожђ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глукоза и аминокиселине могу повећати апсорпцију гвожђ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5. протеини млека смањују апсорпцију гвожђ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33ff"/>
                </a:solidFill>
                <a:latin typeface="MyriadPro-Black"/>
              </a:rPr>
              <a:t>Припрема гвожђа за апсорпц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23640" y="1557360"/>
            <a:ext cx="844524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јвећи део гвожђа у храни налази се у фери (Fе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облику, док се апсорпција врши у феро (Fе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обли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Fе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едуктазна активност је везана за транспортер гвожђа који се налази у четкастом покрову ентероци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удачн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креција раствара гвожђе и омогућава да се формирају растворљиви комплекси са аскорбинском киселином и другим супстанцама које помажу да се гвожђе редукује у феро (Fе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обл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начај овог процеса код људи потврђује податак да парцијална гастректомија као релативно честу и мучну последицу има развој анемије са дефицијенцијом гвожђ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33ff"/>
                </a:solidFill>
                <a:latin typeface="MyriadPro-Black"/>
              </a:rPr>
              <a:t>Механизам апсорпције гвожђ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23640" y="1557360"/>
            <a:ext cx="844524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организму се нормално апсорбује 3–6% укупне количине гвожђа унетог хра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сорпција гвожђа се скоро комплетно одвија у дуодену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нспорт Fе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 ентероците одвија се преко дивалентног транспортера за метале 1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DM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о гвожђа у ентероцитима складишти се у облику феритина, док се остатак транспортује из ентероцита помоћу посебног транспортера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ропортин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ропортин 1 се налази на базолатералној страни ћел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вом транспортеру је прикључен протеин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ефестин (H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ефестин није транспортни протеин, али убрзава овај базолатералн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unset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33ff"/>
                </a:solidFill>
                <a:latin typeface="MyriadPro-Black"/>
              </a:rPr>
              <a:t>Схематски приказ апсорпције гвожђ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C:\Users\Vladimir Zivkovic\Desktop\GANONG\SLIKE\XXVI POGLAVLjE\PNG\Gan024_Fig_26-08.png"/>
          <p:cNvPicPr/>
          <p:nvPr/>
        </p:nvPicPr>
        <p:blipFill>
          <a:blip r:embed="rId1"/>
          <a:stretch/>
        </p:blipFill>
        <p:spPr>
          <a:xfrm>
            <a:off x="971640" y="1341360"/>
            <a:ext cx="7013520" cy="38880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4"/>
          <p:cNvSpPr/>
          <p:nvPr/>
        </p:nvSpPr>
        <p:spPr>
          <a:xfrm>
            <a:off x="324000" y="5445000"/>
            <a:ext cx="8569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псорпција гвожђа. Fе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е конвертује у Fе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д дејством ензима фериредуктазе. Потом се Fе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ранспортује у ентероцит преко апикалног мембранског транспортера за гвожђе – DMT1. Хем се транспортује у ентероцит помоћу посебног хем-транспортера (НТ), где хемоксигеназа типа 2 (НО2) ослобађа Fе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з хема. Део интрацелуларног Fе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е претвара у Fе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везује за феритин, док се преостали део везује за базолатерални транспортер гвожђа – феропортин (FP) и транспортује у екстрацелуларну течност. Овај транспорт помаже хефестин (Hp). У плазми се Fе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ново претвара у Fе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везује за трансферин (ТF), протеин одговоран за транспорт гвожђ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33ff"/>
                </a:solidFill>
                <a:latin typeface="MyriadPro-Black"/>
              </a:rPr>
              <a:t>Транспорт плазмом и складиштење гвожђ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3640" y="1916280"/>
            <a:ext cx="844524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плазми се Fе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етвара у Fе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везује за транспортни протеин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фе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нсферин има два места за везивање гвожђ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иолошки је око 35% трансферина сатурисано гвожђ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иолошка концентрација гвожђа у плазми износи око 130 μg/dl (23 μmol/l) код мушкараца и око 110 μg/dl (19 μmol/l) код ж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 укупне количине гвожђа у организму 70% се налази у хемоглобину, 3% у миоглобину, док се остатак налази 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ритин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има га не само у ентероцитима већ и у многим другим ћелијам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екули феритина се могу нагомилавати на лизозомалним мембранама и формирати наслаге које садрже и до 50% гвожђа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емосиде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ода као телесни раствар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90756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Молекул воде због својих карактеристика представља идеалан растварач за одвијање физиолошких реак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Карактеристике које воду чине идеалном за одвијање физиолошких процеса с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велики површински нап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велика топлота испарав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велики топлотни капац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висока диелектрична конста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лити су молекули који у води дисосују на своје катјонске и анјонске еквивален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Сродна слика"/>
          <p:cNvPicPr/>
          <p:nvPr/>
        </p:nvPicPr>
        <p:blipFill>
          <a:blip r:embed="rId1"/>
          <a:stretch/>
        </p:blipFill>
        <p:spPr>
          <a:xfrm>
            <a:off x="1547640" y="3789360"/>
            <a:ext cx="563904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rcRect l="0" t="60503" r="0" b="0"/>
          <a:stretch/>
        </p:blipFill>
        <p:spPr>
          <a:xfrm>
            <a:off x="755640" y="4149720"/>
            <a:ext cx="5030640" cy="27082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Људски организам као раст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rcRect l="21472" t="0" r="22709" b="40553"/>
          <a:stretch/>
        </p:blipFill>
        <p:spPr>
          <a:xfrm>
            <a:off x="6335640" y="2781360"/>
            <a:ext cx="2808360" cy="40766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179280" y="1628640"/>
            <a:ext cx="792180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Ћелије вишећелијских организама се налазе у “унутрашњем мору”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екстрацелуларне течности (ЕЦТ),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из које преузимају хранљиве материје и О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, и у коју отпуштају продукте метабол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ближно 1/3 укупне запремине воде у организму чини ЕЦ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к преостале 2/3 представљају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нтрацелуларну теч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(ИЦ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Резултат слика за body water"/>
          <p:cNvPicPr/>
          <p:nvPr/>
        </p:nvPicPr>
        <p:blipFill>
          <a:blip r:embed="rId1"/>
          <a:stretch/>
        </p:blipFill>
        <p:spPr>
          <a:xfrm>
            <a:off x="2627280" y="2924280"/>
            <a:ext cx="3816360" cy="36734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центуална заступљеност вoде у организму ч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9280" y="1557000"/>
            <a:ext cx="9144000" cy="16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роценат воде је у дечијем добу највећи (70-80% телесне мас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роценат воде у телу се са старењем смању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ko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60% телесне ма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одрасле особе средње конституције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чини 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468360" y="40464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Calibri"/>
              </a:rPr>
              <a:t>Проценат телесне воде у односу на укупну телесну масу у зависности од стар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11280" y="1989000"/>
            <a:ext cx="7993080" cy="38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Старост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Мушки пол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Оба пола</a:t>
            </a:r>
            <a:r>
              <a:rPr b="1" lang="en-US" sz="2100" spc="-1" strike="noStrike">
                <a:solidFill>
                  <a:srgbClr val="ffff00"/>
                </a:solidFill>
                <a:latin typeface="Calibri"/>
              </a:rPr>
              <a:t>               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Женски по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0-1 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месец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 7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1-12 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месeци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 6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1-10 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година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6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10-16 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година</a:t>
            </a:r>
            <a:r>
              <a:rPr b="0" lang="sr-Latn-CS" sz="21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      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59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       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5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17-39 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година</a:t>
            </a:r>
            <a:r>
              <a:rPr b="0" lang="sr-Latn-CS" sz="21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61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      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 5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40-59 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година</a:t>
            </a:r>
            <a:r>
              <a:rPr b="0" lang="sr-Latn-CS" sz="21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55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      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5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60 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година и више    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52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      </a:t>
            </a:r>
            <a:r>
              <a:rPr b="1" lang="sr-CS" sz="21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1" lang="sr-Latn-CS" sz="2100" spc="-1" strike="noStrike">
                <a:solidFill>
                  <a:srgbClr val="ffff00"/>
                </a:solidFill>
                <a:latin typeface="Calibri"/>
              </a:rPr>
              <a:t> 4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1828800" y="2209680"/>
            <a:ext cx="5257800" cy="2514600"/>
          </a:xfrm>
          <a:prstGeom prst="rect">
            <a:avLst/>
          </a:prstGeom>
          <a:solidFill>
            <a:srgbClr val="ffff00">
              <a:alpha val="22000"/>
            </a:srgbClr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"/>
          <p:cNvGrpSpPr/>
          <p:nvPr/>
        </p:nvGrpSpPr>
        <p:grpSpPr>
          <a:xfrm>
            <a:off x="455760" y="609480"/>
            <a:ext cx="8240400" cy="5369040"/>
            <a:chOff x="455760" y="609480"/>
            <a:chExt cx="8240400" cy="5369040"/>
          </a:xfrm>
        </p:grpSpPr>
        <p:sp>
          <p:nvSpPr>
            <p:cNvPr id="65" name="Line 4"/>
            <p:cNvSpPr/>
            <p:nvPr/>
          </p:nvSpPr>
          <p:spPr>
            <a:xfrm>
              <a:off x="1828800" y="1981080"/>
              <a:ext cx="0" cy="36576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5"/>
            <p:cNvSpPr/>
            <p:nvPr/>
          </p:nvSpPr>
          <p:spPr>
            <a:xfrm>
              <a:off x="7086600" y="1981080"/>
              <a:ext cx="0" cy="36576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5029200" y="2209680"/>
              <a:ext cx="2057400" cy="2514600"/>
            </a:xfrm>
            <a:prstGeom prst="rect">
              <a:avLst/>
            </a:prstGeom>
            <a:solidFill>
              <a:srgbClr val="ffff00">
                <a:alpha val="24000"/>
              </a:srgbClr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6477120" y="2209680"/>
              <a:ext cx="609480" cy="2514600"/>
            </a:xfrm>
            <a:prstGeom prst="rect">
              <a:avLst/>
            </a:prstGeom>
            <a:solidFill>
              <a:srgbClr val="ffff00">
                <a:alpha val="22000"/>
              </a:srgbClr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8"/>
            <p:cNvSpPr/>
            <p:nvPr/>
          </p:nvSpPr>
          <p:spPr>
            <a:xfrm flipV="1">
              <a:off x="5029200" y="1980720"/>
              <a:ext cx="0" cy="2286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5029200" y="4724280"/>
              <a:ext cx="0" cy="2286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0"/>
            <p:cNvSpPr/>
            <p:nvPr/>
          </p:nvSpPr>
          <p:spPr>
            <a:xfrm flipV="1">
              <a:off x="6477120" y="1980720"/>
              <a:ext cx="0" cy="2286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1"/>
            <p:cNvSpPr/>
            <p:nvPr/>
          </p:nvSpPr>
          <p:spPr>
            <a:xfrm>
              <a:off x="1828800" y="5486400"/>
              <a:ext cx="52578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2"/>
            <p:cNvSpPr/>
            <p:nvPr/>
          </p:nvSpPr>
          <p:spPr>
            <a:xfrm>
              <a:off x="5029200" y="4876920"/>
              <a:ext cx="20574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13"/>
            <p:cNvSpPr/>
            <p:nvPr/>
          </p:nvSpPr>
          <p:spPr>
            <a:xfrm>
              <a:off x="1828800" y="2090880"/>
              <a:ext cx="32004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4"/>
            <p:cNvSpPr/>
            <p:nvPr/>
          </p:nvSpPr>
          <p:spPr>
            <a:xfrm>
              <a:off x="5029200" y="2090880"/>
              <a:ext cx="1447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5"/>
            <p:cNvSpPr/>
            <p:nvPr/>
          </p:nvSpPr>
          <p:spPr>
            <a:xfrm>
              <a:off x="6477120" y="2090880"/>
              <a:ext cx="6094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6"/>
            <p:cNvSpPr/>
            <p:nvPr/>
          </p:nvSpPr>
          <p:spPr>
            <a:xfrm>
              <a:off x="2057400" y="1689120"/>
              <a:ext cx="281952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ffff00"/>
                  </a:solidFill>
                  <a:latin typeface="Arial"/>
                </a:rPr>
                <a:t>Intracellular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ffff00"/>
                  </a:solidFill>
                  <a:latin typeface="Arial"/>
                </a:rPr>
                <a:t>(40% body weight; 28 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7"/>
            <p:cNvSpPr/>
            <p:nvPr/>
          </p:nvSpPr>
          <p:spPr>
            <a:xfrm>
              <a:off x="5105520" y="1219320"/>
              <a:ext cx="1371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ffff00"/>
                  </a:solidFill>
                  <a:latin typeface="Arial"/>
                </a:rPr>
                <a:t>Interstitial fluid and lymph water (40% body weight; 10.5 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6781680" y="1584360"/>
              <a:ext cx="447840" cy="39672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282" h="250">
                  <a:moveTo>
                    <a:pt x="0" y="250"/>
                  </a:moveTo>
                  <a:lnTo>
                    <a:pt x="1" y="0"/>
                  </a:lnTo>
                  <a:lnTo>
                    <a:pt x="282" y="7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9"/>
            <p:cNvSpPr/>
            <p:nvPr/>
          </p:nvSpPr>
          <p:spPr>
            <a:xfrm>
              <a:off x="7095960" y="14367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ffff00"/>
                  </a:solidFill>
                  <a:latin typeface="Arial"/>
                </a:rPr>
                <a:t>Plasma water (5% body weight; 3.5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20"/>
            <p:cNvSpPr/>
            <p:nvPr/>
          </p:nvSpPr>
          <p:spPr>
            <a:xfrm>
              <a:off x="4724280" y="4908600"/>
              <a:ext cx="281952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ffff00"/>
                  </a:solidFill>
                  <a:latin typeface="Arial"/>
                </a:rPr>
                <a:t>extracellular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ffff00"/>
                  </a:solidFill>
                  <a:latin typeface="Arial"/>
                </a:rPr>
                <a:t>(20% body weight; 14 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1"/>
            <p:cNvSpPr/>
            <p:nvPr/>
          </p:nvSpPr>
          <p:spPr>
            <a:xfrm>
              <a:off x="3048120" y="5607000"/>
              <a:ext cx="3047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ffff00"/>
                  </a:solidFill>
                  <a:latin typeface="Arial"/>
                </a:rPr>
                <a:t>Total body wate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ffff00"/>
                  </a:solidFill>
                  <a:latin typeface="Arial"/>
                </a:rPr>
                <a:t>(60% body weight; 42 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2"/>
            <p:cNvSpPr/>
            <p:nvPr/>
          </p:nvSpPr>
          <p:spPr>
            <a:xfrm>
              <a:off x="455760" y="609480"/>
              <a:ext cx="815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400" spc="-1" strike="noStrike">
                  <a:solidFill>
                    <a:srgbClr val="ffff00"/>
                  </a:solidFill>
                  <a:latin typeface="Arial"/>
                </a:rPr>
                <a:t>ДИСТРИБУЦИЈА ВОДЕ У ТЕЛ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25-1"/>
          <p:cNvPicPr/>
          <p:nvPr/>
        </p:nvPicPr>
        <p:blipFill>
          <a:blip r:embed="rId1"/>
          <a:stretch/>
        </p:blipFill>
        <p:spPr>
          <a:xfrm>
            <a:off x="3452760" y="2133720"/>
            <a:ext cx="2368440" cy="4572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3944880" y="254808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000" spc="-1" strike="noStrike">
                <a:solidFill>
                  <a:srgbClr val="ffff00"/>
                </a:solidFill>
                <a:latin typeface="Arial"/>
              </a:rPr>
              <a:t>Плаз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00"/>
                </a:solidFill>
                <a:latin typeface="Arial"/>
              </a:rPr>
              <a:t>3.0 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538440" y="3238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000" spc="-1" strike="noStrike">
                <a:solidFill>
                  <a:srgbClr val="ffff00"/>
                </a:solidFill>
                <a:latin typeface="Arial"/>
              </a:rPr>
              <a:t>Капиларна мембра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809880" y="3924360"/>
            <a:ext cx="1211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9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sr-CS" sz="900" spc="-1" strike="noStrike">
                <a:solidFill>
                  <a:srgbClr val="ffff00"/>
                </a:solidFill>
                <a:latin typeface="Arial"/>
              </a:rPr>
              <a:t>Интерстицијумска течност</a:t>
            </a:r>
            <a:r>
              <a:rPr b="0" lang="sr-CS" sz="1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1000" spc="-1" strike="noStrike">
                <a:solidFill>
                  <a:srgbClr val="ffff00"/>
                </a:solidFill>
                <a:latin typeface="Arial"/>
              </a:rPr>
              <a:t>11.0 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562200" y="48387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000" spc="-1" strike="noStrike">
                <a:solidFill>
                  <a:srgbClr val="ffff00"/>
                </a:solidFill>
                <a:latin typeface="Arial"/>
              </a:rPr>
              <a:t>Ћелијска мембра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3876840" y="5715000"/>
            <a:ext cx="1143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900" spc="-1" strike="noStrike">
                <a:solidFill>
                  <a:srgbClr val="ffff00"/>
                </a:solidFill>
                <a:latin typeface="Arial"/>
              </a:rPr>
              <a:t>Интерцелуларна течност</a:t>
            </a:r>
            <a:r>
              <a:rPr b="0" lang="sr-CS" sz="1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1000" spc="-1" strike="noStrike">
                <a:solidFill>
                  <a:srgbClr val="ffff00"/>
                </a:solidFill>
                <a:latin typeface="Arial"/>
              </a:rPr>
              <a:t>28.0 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 flipH="1" flipV="1">
            <a:off x="3002040" y="1905120"/>
            <a:ext cx="45720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H="1" flipV="1">
            <a:off x="3154320" y="1752480"/>
            <a:ext cx="45720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0"/>
          <p:cNvSpPr/>
          <p:nvPr/>
        </p:nvSpPr>
        <p:spPr>
          <a:xfrm flipH="1" flipV="1">
            <a:off x="3002040" y="1752480"/>
            <a:ext cx="457200" cy="4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1"/>
          <p:cNvSpPr/>
          <p:nvPr/>
        </p:nvSpPr>
        <p:spPr>
          <a:xfrm flipV="1">
            <a:off x="5211720" y="1752480"/>
            <a:ext cx="38088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2"/>
          <p:cNvSpPr/>
          <p:nvPr/>
        </p:nvSpPr>
        <p:spPr>
          <a:xfrm flipV="1">
            <a:off x="5364000" y="1893960"/>
            <a:ext cx="38124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3"/>
          <p:cNvSpPr/>
          <p:nvPr/>
        </p:nvSpPr>
        <p:spPr>
          <a:xfrm flipV="1">
            <a:off x="5364000" y="1730520"/>
            <a:ext cx="381240" cy="4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5581800" y="1476360"/>
            <a:ext cx="77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ffff00"/>
                </a:solidFill>
                <a:latin typeface="Arial"/>
              </a:rPr>
              <a:t>УН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316240" y="1219320"/>
            <a:ext cx="1143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ffff00"/>
                </a:solidFill>
                <a:latin typeface="Arial"/>
              </a:rPr>
              <a:t>ИЗДАВАЊ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ffff00"/>
                </a:solidFill>
                <a:latin typeface="Arial"/>
              </a:rPr>
              <a:t>Бубре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ffff00"/>
                </a:solidFill>
                <a:latin typeface="Arial"/>
              </a:rPr>
              <a:t>Плућ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ffff00"/>
                </a:solidFill>
                <a:latin typeface="Arial"/>
              </a:rPr>
              <a:t>Фец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ffff00"/>
                </a:solidFill>
                <a:latin typeface="Arial"/>
              </a:rPr>
              <a:t>Зно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ffff00"/>
                </a:solidFill>
                <a:latin typeface="Arial"/>
              </a:rPr>
              <a:t>Кож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6"/>
          <p:cNvSpPr/>
          <p:nvPr/>
        </p:nvSpPr>
        <p:spPr>
          <a:xfrm>
            <a:off x="3154320" y="2286000"/>
            <a:ext cx="152280" cy="2514600"/>
          </a:xfrm>
          <a:custGeom>
            <a:avLst/>
            <a:gdLst>
              <a:gd name="textAreaLeft" fmla="*/ 97200 w 152280"/>
              <a:gd name="textAreaRight" fmla="*/ 152640 w 15228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7"/>
          <p:cNvSpPr/>
          <p:nvPr/>
        </p:nvSpPr>
        <p:spPr>
          <a:xfrm rot="16200000">
            <a:off x="1745280" y="338976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ffff00"/>
                </a:solidFill>
                <a:latin typeface="Arial"/>
              </a:rPr>
              <a:t>Екстрацелуларна течност </a:t>
            </a:r>
            <a:r>
              <a:rPr b="0" lang="sr-Latn-CS" sz="1200" spc="-1" strike="noStrike">
                <a:solidFill>
                  <a:srgbClr val="ffff00"/>
                </a:solidFill>
                <a:latin typeface="Arial"/>
              </a:rPr>
              <a:t>(14.0 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8"/>
          <p:cNvSpPr/>
          <p:nvPr/>
        </p:nvSpPr>
        <p:spPr>
          <a:xfrm rot="16200000">
            <a:off x="5425920" y="3364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ffff00"/>
                </a:solidFill>
                <a:latin typeface="Arial"/>
              </a:rPr>
              <a:t>Лимфо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9"/>
          <p:cNvSpPr/>
          <p:nvPr/>
        </p:nvSpPr>
        <p:spPr>
          <a:xfrm flipH="1">
            <a:off x="5886000" y="3473280"/>
            <a:ext cx="3812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533520" y="3808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ОДЕЉЦИ ТЕЛЕСНИХ ТЕЧНОСТИ И ЊИХОВА ХОМЕОСТ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6:16:54Z</dcterms:created>
  <dc:creator>Maja Jovanovic</dc:creator>
  <dc:description/>
  <dc:language>en-US</dc:language>
  <cp:lastModifiedBy>ХХХ</cp:lastModifiedBy>
  <dcterms:modified xsi:type="dcterms:W3CDTF">2021-02-17T06:45:48Z</dcterms:modified>
  <cp:revision>78</cp:revision>
  <dc:subject/>
  <dc:title>ИНТЕГРИСАНЕ АКАДЕМСКЕ СТУДИЈЕ ФАРМАЦИЈЕ  Г04 – Медицинска хемија и дизајн лекова 2</dc:title>
</cp:coreProperties>
</file>