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B31-F5EF-46A7-8F79-0223736F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B74-5A05-4EE6-ADDC-91BE9FF5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EBD-07CB-444C-A312-1A433BF7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150-1205-4FDF-B05E-8FCFBD15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4E0-15AA-414A-A5D1-CCB8B2DD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04C-96C3-4EF1-94EA-9B9F99BE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3F1-7E32-4498-8865-560611BF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C01-9BD4-48D5-A32E-EF7E097D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0FF-64A0-4FA9-B582-999067F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ACB-824F-4A4B-B0DE-D23F39A1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BB6-5A08-49A7-8F31-CC58E53E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060-9769-4673-9D7C-BB604ED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F703-F555-4C0C-A099-F1F68F5D1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889800" y="2133720"/>
            <a:ext cx="1540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ЖБА БРОЈ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39640" y="2708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Поремећаји секреције и апсорпције воде и минерала у гастроинтестиналном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реалије садрже угљене хидрате и уз додатак соли, могу бити корисне у терапији дијаре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ални раствори за рехидратацију, паковања мешавине шећера и соли који су драматично смањили смртност у епидемијама колере и других болести са дијарејом у земљама у разво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0000"/>
                </a:solidFill>
                <a:latin typeface="Arial"/>
                <a:ea typeface="Arial"/>
              </a:rPr>
              <a:t>Колера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Резултат слика за cholera"/>
          <p:cNvPicPr/>
          <p:nvPr/>
        </p:nvPicPr>
        <p:blipFill>
          <a:blip r:embed="rId1"/>
          <a:stretch/>
        </p:blipFill>
        <p:spPr>
          <a:xfrm>
            <a:off x="1547640" y="2708280"/>
            <a:ext cx="61153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3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лера је тежак облик секреторне дијареје који се често јавља као епидемијска болест удружена са природним катастрофама (када су онемогућени основни хигјенски услов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Заједно са другим секреторним дијарејама (које изазивају бактерије и вируси) колера има висок морбидитет и морталитет, посебно новофорираним и земљама у развој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Резултат слика за cholera"/>
          <p:cNvPicPr/>
          <p:nvPr/>
        </p:nvPicPr>
        <p:blipFill>
          <a:blip r:embed="rId1"/>
          <a:stretch/>
        </p:blipFill>
        <p:spPr>
          <a:xfrm>
            <a:off x="900000" y="3357720"/>
            <a:ext cx="58006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колеру је карактеристична висока концентрација  cAMP у епителним ћелијама ц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ацил колере остаје у цревном лумену, али он ствара токсин који се везује за GM-1 ганглиозидни рецептор на апикалној мембрани интестиналних епителних ћелија, па део А-субјединице токсина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ептид) улази у епителну ћел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&amp;Rcy;&amp;iecy;&amp;zcy;&amp;ucy;&amp;lcy;&amp;tcy;&amp;acy;&amp;tcy; &amp;scy;&amp;lcy;&amp;icy;&amp;kcy;&amp;acy; &amp;zcy;&amp;acy; kolera bolest"/>
          <p:cNvPicPr/>
          <p:nvPr/>
        </p:nvPicPr>
        <p:blipFill>
          <a:blip r:embed="rId1"/>
          <a:stretch/>
        </p:blipFill>
        <p:spPr>
          <a:xfrm>
            <a:off x="5076720" y="4005360"/>
            <a:ext cx="24004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1557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епдид везује аденозин дифосфат рибозу 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субјединицу Gs, инхибишући тако њену GTP-азну активнос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ирани G протеин изазива дродужену стимулацију аденил циклазе  и знатно повећаава концентрацију интрацелуларног cAM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&amp;Rcy;&amp;iecy;&amp;zcy;&amp;ucy;&amp;lcy;&amp;tcy;&amp;acy;&amp;tcy; &amp;scy;&amp;lcy;&amp;icy;&amp;kcy;&amp;acy; &amp;zcy;&amp;acy; vibrio cholerae"/>
          <p:cNvPicPr/>
          <p:nvPr/>
        </p:nvPicPr>
        <p:blipFill>
          <a:blip r:embed="rId1"/>
          <a:stretch/>
        </p:blipFill>
        <p:spPr>
          <a:xfrm>
            <a:off x="5076720" y="4508640"/>
            <a:ext cx="3305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хематски приказ патофизиолошког механизма у коле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Резултат слика за cholerae mechanism"/>
          <p:cNvPicPr/>
          <p:nvPr/>
        </p:nvPicPr>
        <p:blipFill>
          <a:blip r:embed="rId1"/>
          <a:srcRect l="5192" t="8307" r="2388" b="1696"/>
          <a:stretch/>
        </p:blipFill>
        <p:spPr>
          <a:xfrm>
            <a:off x="1116000" y="177336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л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д повећане секреције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смањена је и функција и мукозних NHE транспортера за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па се смањује апсорпција NaC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о резултат настаје повећање количине воде и електролита у цревима, што доводи до дијаре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K ATP-аза и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глукозни транспортер нису захваћени, тако да се заједничком реапсорпцијом глукозе  и 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азилази овај поремећа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колере је углавном симптоматска док се узрочник не докаже, мада се антибиотици понекад одмах корис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терапијски приступ је да се обезбеде велике количине течности  и електролита (које се губе столицом) да би се спречила дехидратац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 столице може да достигне и 20 литара днев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постоје стерилни услови, најбоље је да се течност и електролити дају интравенс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о у епидемијама то није могућ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се искористити очувана активност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укозног котранспортера, која пружа физиолошку основу за надокнаду губитка Na и воде применом оралних раствора који садрже NaCl и глуко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Vladimir Zivkovic</cp:lastModifiedBy>
  <dcterms:modified xsi:type="dcterms:W3CDTF">2017-02-01T11:27:57Z</dcterms:modified>
  <cp:revision>225</cp:revision>
  <dc:subject/>
  <dc:title>Slide 1</dc:title>
</cp:coreProperties>
</file>